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95C5-4AF4-4D77-BBA8-C8F2D7F79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7FDE-4FA7-4828-A6C0-2FCBD60B4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24DE-4AE5-4C17-AB49-12A625A4D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B0D6-E20F-48F6-94AA-BF6DADF22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4079-A008-4931-A9F6-C68468C81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8E8D-24E5-41C7-BC0B-99C33B172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81BB-BA9A-4BCB-A4AD-868F9C498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C1FA-C81D-4555-B031-49E7063F7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6B39-9572-4A12-A33C-BB30FCBE2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5244-B257-4630-9129-B6461AD9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C3B1-C1B3-4183-A6CF-1D8B79AE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51C9-236B-4239-A726-D4F290EF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2AE11-800C-4C09-87E3-5759F2DA0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glib.lbl.gov/ImgLib/COLLECTIONS/BERKELEY-LAB/RESEARCH-1991-PRESENT/LIFE-SCIENCES/HUMAN-GENOME-PROJECT/images/96703209.lowres.jpe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Molecular Gene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500120" y="2320920"/>
            <a:ext cx="6755040" cy="21369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092240" y="258300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hemoglobin 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0400" y="2298600"/>
            <a:ext cx="977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e marrow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921040" y="28576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92240" y="426708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ally engineered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59320" y="256536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493040" y="407664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e mar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90920" y="231840"/>
            <a:ext cx="5105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Gene Thera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080" y="5116680"/>
            <a:ext cx="825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ffects some times are not long lasting ex. Treating people wi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ystic Fibrosis by spraying genetically altered viruses into the brea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sa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hical Consid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ould be great for scientists to be able to cure disease bu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engineering taller peo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DNA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ing for Alle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niocent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onic villus samp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NA sequencing that detect disease causing alle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572000" y="1371600"/>
            <a:ext cx="3733920" cy="27129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cvs.jpg"/>
          <p:cNvPicPr/>
          <p:nvPr/>
        </p:nvPicPr>
        <p:blipFill>
          <a:blip r:embed="rId3"/>
          <a:stretch/>
        </p:blipFill>
        <p:spPr>
          <a:xfrm>
            <a:off x="4724280" y="4114800"/>
            <a:ext cx="388620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Fingerprin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individual is exactly alike except identical tw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fingerprinting is a power tool that can be used to identify individu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poses: solve crimes, determine paternity ca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30400" y="1897200"/>
            <a:ext cx="6718320" cy="1773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124080" y="1828800"/>
            <a:ext cx="1905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striction enzym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73120" y="3433680"/>
            <a:ext cx="21337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romosomes contain large amounts of DNA called repeats that do not code for proteins.  This DNA varies from person to person. Here, one sample has 12 repeats between genes A and B, while the second sample has 9 repeat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32040" y="3433680"/>
            <a:ext cx="208296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striction enzymes are used to cut the DNA into fragments containing genes and repeats. Note that the repeat fragments from these two samples are of different length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70680" y="3433680"/>
            <a:ext cx="230004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DNA fragments are separated according to size using gel electrophoresis.  The fragments containing repeats are then labeled using radioactive probes. This produces a series of bands—the DNA fingerprin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90920" y="231840"/>
            <a:ext cx="5105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DNA Fingerprin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14600" y="609480"/>
            <a:ext cx="6248520" cy="5133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66840" y="344520"/>
            <a:ext cx="204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m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lo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886200" y="228600"/>
            <a:ext cx="4373640" cy="6367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61440" y="773280"/>
            <a:ext cx="308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suspect com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ri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095720" y="762120"/>
            <a:ext cx="4133880" cy="54100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3640" y="1106640"/>
            <a:ext cx="282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is the father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191120" y="304920"/>
            <a:ext cx="4306680" cy="5976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37520" y="801720"/>
            <a:ext cx="331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sets of twin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c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Genom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ngoing effort to analyze the human DNA sequ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with Gene Therapy which is replacing a working gene with a faulty or absent gen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Human Genome project, gel analysis program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95680" y="1523880"/>
            <a:ext cx="4191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30T17:49:28Z</dcterms:created>
  <dc:creator>Perquimans County Schools</dc:creator>
  <dc:description/>
  <dc:language>en-US</dc:language>
  <cp:lastModifiedBy>Perquimans County Schools</cp:lastModifiedBy>
  <dcterms:modified xsi:type="dcterms:W3CDTF">2006-11-30T19:45:31Z</dcterms:modified>
  <cp:revision>4</cp:revision>
  <dc:subject/>
  <dc:title>Human DNA Analysis</dc:title>
</cp:coreProperties>
</file>